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0EE93-175C-438A-ACF5-0D38F57C7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2316B-A64E-453D-A98A-E14B6B8C0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FBEC3-B722-42EC-ABB1-6C50A8F00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E2FFB-4FA0-4471-84E8-1A9A15382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0BBEFD-12EE-4ED3-AAC0-0D7436739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98651-33BB-44F6-B473-698807ECC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F68F0-42DC-491F-A298-C18E620CA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F5A25-DE26-4E91-AE56-D90372949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7180E-FC21-4573-A9CF-A26A4A193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25593-D72F-49A7-A36D-6457726D4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A2B95-7610-4B26-B31C-E75D4F3A0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1B0E5-9201-4260-9279-881DB9202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B5C84-06F5-441F-B17D-902291DA5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623C1-1B75-47B8-A393-7DD079385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9EDC2-590F-4E59-8155-EB2991BCC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3A596-3B43-4E5C-A227-ECC508618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0828A-7AF7-423D-AAF1-9C31AED9B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9868B-4355-4EF2-BB67-08339BD84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A0CC9-0FF6-48F6-9604-8A514874A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732F9-CCCB-4CF3-887B-BB623564B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15AB1-B4B1-4945-B25C-D5C0E5C44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A56CF-4253-42F4-B981-1396E432D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CD90A-CA43-4DBF-B000-1150EE02F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1DB9-7B5F-4C3C-A167-06FFAB2E0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2C63-7F00-47C6-95CA-33656FB8F40A}"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0155-C58A-4A1B-85A7-268E59B8BDE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b8"/>
                </a:solidFill>
                <a:latin typeface="Verdana"/>
              </a:rPr>
              <a:t>КРОССВОРД</a:t>
            </a:r>
            <a:endParaRPr b="0" lang="en-US" sz="3800" spc="-1" strike="noStrike">
              <a:solidFill>
                <a:srgbClr val="000000"/>
              </a:solidFill>
              <a:latin typeface="Verdana"/>
            </a:endParaRPr>
          </a:p>
        </p:txBody>
      </p:sp>
      <p:pic>
        <p:nvPicPr>
          <p:cNvPr id="85" name="" descr=""/>
          <p:cNvPicPr/>
          <p:nvPr/>
        </p:nvPicPr>
        <p:blipFill>
          <a:blip r:embed="rId2"/>
          <a:stretch/>
        </p:blipFill>
        <p:spPr>
          <a:xfrm>
            <a:off x="577800" y="1766880"/>
            <a:ext cx="7978680" cy="4238640"/>
          </a:xfrm>
          <a:prstGeom prst="rect">
            <a:avLst/>
          </a:prstGeom>
          <a:ln w="0">
            <a:noFill/>
          </a:ln>
        </p:spPr>
      </p:pic>
      <p:pic>
        <p:nvPicPr>
          <p:cNvPr id="86" name="" descr=""/>
          <p:cNvPicPr/>
          <p:nvPr/>
        </p:nvPicPr>
        <p:blipFill>
          <a:blip r:embed="rId3"/>
          <a:stretch/>
        </p:blipFill>
        <p:spPr>
          <a:xfrm>
            <a:off x="468360" y="1628640"/>
            <a:ext cx="8207280" cy="449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b8"/>
                </a:solidFill>
                <a:latin typeface="Verdana"/>
              </a:rPr>
              <a:t>ВОПРОСЫ К КРОССВОРДУ</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Вопросы к кроссворду – 1</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По горизонтали.</a:t>
            </a:r>
            <a:r>
              <a:rPr b="0" lang="en-US" sz="1700" spc="-1" strike="noStrike">
                <a:solidFill>
                  <a:srgbClr val="000000"/>
                </a:solidFill>
                <a:latin typeface="Verdana"/>
              </a:rPr>
              <a:t> 1. Фигура на плоскости, все точки которой расположены не далее данного расстояния от одной точки. 2. Прямая, при вращении которой вокруг оси образуется боковая поверхность цилиндра, конуса. 3. Тело, полученное вращением прямоугольника вокруг одной из его сторон. 4. Угол между высотой и плоскостью основания конуса. 5. Тело, полученное вращением круга вокруг оси, лежащей в плоскости круга и не пересекающей его.</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По вертикали.</a:t>
            </a:r>
            <a:r>
              <a:rPr b="0" lang="en-US" sz="1700" spc="-1" strike="noStrike">
                <a:solidFill>
                  <a:srgbClr val="000000"/>
                </a:solidFill>
                <a:latin typeface="Verdana"/>
              </a:rPr>
              <a:t> 1. Тело, полученное вращением прямоугольного треугольника вокруг одного из его катетов. 2. Плоская фигура, при вращении которой образуется усечённый конус. 3. Тело вращения, являющееся верхней частью архитектурного сооружения. 4. Отрезок, соединяющий две точки сферы и проходящий через центр шара. 5. Тело, полученное вращением полукруга вокруг его диаметра. 6. Фигура, полученная вращением полуокружности вокруг её диаметра. 7. Тело вращения, об устойчивости движения которого написана известная работа великой русской женщины – математика.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39280" y="160956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Вопросы к кроссворду – 2</a:t>
            </a:r>
            <a:endParaRPr b="0" lang="en-US" sz="1900" spc="-1" strike="noStrike">
              <a:solidFill>
                <a:srgbClr val="000000"/>
              </a:solidFill>
              <a:latin typeface="Verdana"/>
            </a:endParaRPr>
          </a:p>
          <a:p>
            <a:pPr marL="455400" indent="-455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Verdana"/>
              </a:rPr>
              <a:t>По горизонтали.</a:t>
            </a:r>
            <a:r>
              <a:rPr b="0" lang="en-US" sz="1900" spc="-1" strike="noStrike">
                <a:solidFill>
                  <a:srgbClr val="000000"/>
                </a:solidFill>
                <a:latin typeface="Verdana"/>
              </a:rPr>
              <a:t> 1. Фигура, полученная вращением параболы вокруг её оси. 2. Отрезок, соединяющий центр сферы с любой её точкой. 3. Круг, являющийся элементом конуса, плоскость которого перпендикулярна оси конуса. 4. Музыкальный инструмент, часть которого напоминает Псевдосферу Лобачевского. 5. Отрезок, соединяющий две точки окружности.</a:t>
            </a:r>
            <a:endParaRPr b="0" lang="en-US" sz="1900" spc="-1" strike="noStrike">
              <a:solidFill>
                <a:srgbClr val="000000"/>
              </a:solidFill>
              <a:latin typeface="Verdana"/>
            </a:endParaRPr>
          </a:p>
          <a:p>
            <a:pPr marL="455400" indent="-455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Verdana"/>
              </a:rPr>
              <a:t>По вертикали.</a:t>
            </a:r>
            <a:r>
              <a:rPr b="0" lang="en-US" sz="1900" spc="-1" strike="noStrike">
                <a:solidFill>
                  <a:srgbClr val="000000"/>
                </a:solidFill>
                <a:latin typeface="Verdana"/>
              </a:rPr>
              <a:t> 1. Фигура, полученная вращением гиперболы вокруг её оси. 2. Перпендикуляр, опущенный из вершины конуса на плоскость основания. 3. Тело, полученное вращением круга вокруг оси, лежащей в плоскости круга и не пересекающей его. 4. Тело, полученное вращением полукруга вокруг его диаметра. 5. . Фигура, полученная вращением полуокружности вокруг её диаметра. 6. Тело вращения, принцип движения которого описала великая русская женщина-математик. 7. Фигура, полученная вращением эллипса вокруг её оси.</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b8"/>
                </a:solidFill>
                <a:latin typeface="Verdana"/>
              </a:rPr>
              <a:t>ОТВЕТЫ К КРОССВОРДАМ</a:t>
            </a:r>
            <a:endParaRPr b="0" lang="en-US" sz="3800" spc="-1" strike="noStrike">
              <a:solidFill>
                <a:srgbClr val="000000"/>
              </a:solidFill>
              <a:latin typeface="Verdana"/>
            </a:endParaRPr>
          </a:p>
        </p:txBody>
      </p:sp>
      <p:sp>
        <p:nvSpPr>
          <p:cNvPr id="92" name="PlaceHolder 2"/>
          <p:cNvSpPr>
            <a:spLocks noGrp="1"/>
          </p:cNvSpPr>
          <p:nvPr>
            <p:ph/>
          </p:nvPr>
        </p:nvSpPr>
        <p:spPr>
          <a:xfrm>
            <a:off x="566280" y="1483920"/>
            <a:ext cx="8001000" cy="42670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Ответы к кроссворду - 1.</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Verdana"/>
              </a:rPr>
              <a:t>По горизонтали.</a:t>
            </a:r>
            <a:r>
              <a:rPr b="0" lang="en-US" sz="2600" spc="-1" strike="noStrike">
                <a:solidFill>
                  <a:srgbClr val="000000"/>
                </a:solidFill>
                <a:latin typeface="Verdana"/>
              </a:rPr>
              <a:t> 1. Круг. 2. Образующая. 3. Цилиндр. 4. Прямой. 5. тор.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Verdana"/>
              </a:rPr>
              <a:t>По вертикали.</a:t>
            </a:r>
            <a:r>
              <a:rPr b="0" lang="en-US" sz="2600" spc="-1" strike="noStrike">
                <a:solidFill>
                  <a:srgbClr val="000000"/>
                </a:solidFill>
                <a:latin typeface="Verdana"/>
              </a:rPr>
              <a:t> 1. Конус. 2. Трапеция. 3. Купол. 4. Диаметр. 5. Шар. 6. Сфера. 7. Юла.</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Ответы к кроссворду - 2.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Verdana"/>
              </a:rPr>
              <a:t>По горизонтали.</a:t>
            </a:r>
            <a:r>
              <a:rPr b="0" lang="en-US" sz="2600" spc="-1" strike="noStrike">
                <a:solidFill>
                  <a:srgbClr val="000000"/>
                </a:solidFill>
                <a:latin typeface="Verdana"/>
              </a:rPr>
              <a:t> 1. Параболоид. 2. Радиус. 3. Основание. 4. Труба. 5. Хорда.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Verdana"/>
              </a:rPr>
              <a:t>По вертикали.</a:t>
            </a:r>
            <a:r>
              <a:rPr b="0" lang="en-US" sz="2600" spc="-1" strike="noStrike">
                <a:solidFill>
                  <a:srgbClr val="000000"/>
                </a:solidFill>
                <a:latin typeface="Verdana"/>
              </a:rPr>
              <a:t> 1. Гиперболоид. 2. Высота. 3. Тор. 4. Шар. 5. Сфера. 6. Юла. 7. Эллипсоид.</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0:55:07Z</dcterms:created>
  <dc:creator>prepod</dc:creator>
  <dc:description/>
  <dc:language>en-US</dc:language>
  <cp:lastModifiedBy>Admin</cp:lastModifiedBy>
  <dcterms:modified xsi:type="dcterms:W3CDTF">2010-05-23T07:32:54Z</dcterms:modified>
  <cp:revision>2</cp:revision>
  <dc:subject/>
  <dc:title>КРОССВОРД</dc:title>
</cp:coreProperties>
</file>